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DF0F-F3B0-439F-A0F8-939A63AB9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8980-6B5F-4E18-A73C-22A0C08B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eatricebiologist.com/2011/01/protists-they-make-no-sens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2EBE-DCDD-4DF6-B61A-3ED0C17C4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2/003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(see phylogenetic tree)…they are most closely related to the slime moulds. Visible on cladogram in textbook (Fig.6 p.6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045C-78FE-4919-A2F0-D0F87CE94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icroscopy-uk.org.uk/mag/indexmag.html?http://www.microscopy-uk.org.uk/mag/artsep01/amoeb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DE46-063D-4BBE-B39E-A119194D4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E45A-E85B-42C8-AF30-3060D0B4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quia.com/jg/1601936lis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2C9A-0455-4678-B439-BC13E546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niaid.nih.gov/topics/Malaria/Pages/lifecycle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(see phylogenetic tree): Phylum Apicomplexa…closely related to the Cili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FAD7-5E82-4C33-9874-C1E21A4C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66.147.244.104/~loveanh0/?p=10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EEA-6FAE-4B21-928C-1AD047D1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s://shsapbiop2-taxa.wikispaces.com/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EB22-0E96-43E7-9005-4CFB4E87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bio.miami.edu/dana/160/160S09_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BFA6-BFCC-4B1B-8028-73F7F41D0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597-B659-49B0-B7BE-42481661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rookc.pbworks.com/w/page/46197520/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E221-8606-4D03-A2CA-A95C426EA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101science.com/parameciu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 of contractile vacuole: https://www.youtube.com/watch?v=9Ynm5ZOW59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3DC5-BCF2-46EB-8FC0-50132B93F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nfovisual.info/02/001_e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5423-86D2-41DF-91EC-A003CAD1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fcps.edu/islandcreekes/ecology/euglen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2C7-B312-4C53-AE0E-1945EBCC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53B-C4CD-4FD3-97DD-3819075B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66E-4EEA-404B-BDA4-EE31C94D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C91-CBB4-4239-B811-F039994D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790-8BAA-498A-8E34-A99AD1BC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565-7416-4CE9-A9C2-C6289806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D81-57FD-497E-9C8C-946ECCFF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386-6E4C-41C1-BBD3-A5B5A5A2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5E9-A48B-4819-B857-7420071D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0DD-77FD-4E83-937F-6371A78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21A-FA44-4FF1-87E5-52B18FB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FBC-A3B9-4AD4-9F15-EC8CA29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FBD7-531C-450B-93C8-D86863F5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Amoeb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03 Structure of an amoeba"/>
          <p:cNvPicPr/>
          <p:nvPr/>
        </p:nvPicPr>
        <p:blipFill>
          <a:blip r:embed="rId1"/>
          <a:stretch/>
        </p:blipFill>
        <p:spPr>
          <a:xfrm>
            <a:off x="1944720" y="1981080"/>
            <a:ext cx="525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amoebaproteus450"/>
          <p:cNvPicPr/>
          <p:nvPr/>
        </p:nvPicPr>
        <p:blipFill>
          <a:blip r:embed="rId1"/>
          <a:srcRect l="4819" t="0" r="4819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0920" y="5013360"/>
            <a:ext cx="7993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this video of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oe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gulfing 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me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youtube.com/watch?v=pvOz4V699g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xual reproduction (binary f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(conjug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cellular prot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involving formation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Alternation-of-generations-"/>
          <p:cNvPicPr/>
          <p:nvPr/>
        </p:nvPicPr>
        <p:blipFill>
          <a:blip r:embed="rId1"/>
          <a:stretch/>
        </p:blipFill>
        <p:spPr>
          <a:xfrm>
            <a:off x="2063880" y="609480"/>
            <a:ext cx="5016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lasmodiu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f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lifecycleWeb"/>
          <p:cNvPicPr/>
          <p:nvPr/>
        </p:nvPicPr>
        <p:blipFill>
          <a:blip r:embed="rId1"/>
          <a:stretch/>
        </p:blipFill>
        <p:spPr>
          <a:xfrm>
            <a:off x="2176560" y="1752480"/>
            <a:ext cx="471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Protis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est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diverse…from small single-celled to large plant-like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og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88"/>
          <p:cNvPicPr/>
          <p:nvPr/>
        </p:nvPicPr>
        <p:blipFill>
          <a:blip r:embed="rId1"/>
          <a:stretch/>
        </p:blipFill>
        <p:spPr>
          <a:xfrm>
            <a:off x="2408400" y="1523880"/>
            <a:ext cx="4402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y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ukaryoteorigin"/>
          <p:cNvPicPr/>
          <p:nvPr/>
        </p:nvPicPr>
        <p:blipFill>
          <a:blip r:embed="rId1"/>
          <a:stretch/>
        </p:blipFill>
        <p:spPr>
          <a:xfrm>
            <a:off x="1960560" y="1600200"/>
            <a:ext cx="5146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of 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of aquatic food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 (malaria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ver fe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&amp; food additives (nori, agar, carrageena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Parameciid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aramecium2"/>
          <p:cNvPicPr/>
          <p:nvPr/>
        </p:nvPicPr>
        <p:blipFill>
          <a:blip r:embed="rId1"/>
          <a:stretch/>
        </p:blipFill>
        <p:spPr>
          <a:xfrm>
            <a:off x="1673280" y="1981080"/>
            <a:ext cx="5797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contractile vacuoles in ac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s://www.youtube.com/watch?v=9Ynm5ZOW59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parameciumdrop9_300"/>
          <p:cNvPicPr/>
          <p:nvPr/>
        </p:nvPicPr>
        <p:blipFill>
          <a:blip r:embed="rId1"/>
          <a:stretch/>
        </p:blipFill>
        <p:spPr>
          <a:xfrm>
            <a:off x="1649520" y="533520"/>
            <a:ext cx="569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Euglen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1 Structure of a euglena"/>
          <p:cNvPicPr/>
          <p:nvPr/>
        </p:nvPicPr>
        <p:blipFill>
          <a:blip r:embed="rId1"/>
          <a:stretch/>
        </p:blipFill>
        <p:spPr>
          <a:xfrm>
            <a:off x="2308320" y="1981080"/>
            <a:ext cx="452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5L"/>
          <p:cNvPicPr/>
          <p:nvPr/>
        </p:nvPicPr>
        <p:blipFill>
          <a:blip r:embed="rId1"/>
          <a:srcRect l="5557" t="0" r="55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136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is beautiful phase-contrast video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ww.youtube.com/watch?v=jl0TzaWUQW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14:04Z</dcterms:created>
  <dc:creator>rubina khan</dc:creator>
  <dc:description/>
  <dc:language>en-US</dc:language>
  <cp:lastModifiedBy>rubina khan</cp:lastModifiedBy>
  <dcterms:modified xsi:type="dcterms:W3CDTF">2016-02-23T16:16:59Z</dcterms:modified>
  <cp:revision>38</cp:revision>
  <dc:subject/>
  <dc:title>The Protists</dc:title>
</cp:coreProperties>
</file>